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A2B2-6788-43E0-A532-2C4BF7A4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B301-8E74-4224-81FE-96EB7905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A965B-C345-418D-B933-A214B15E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74F8F-8EF0-4E94-A004-83C78372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6CBE6-FFA7-43F9-B357-7EADE46F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13884-1FE5-46D7-9098-243526EB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E7D86-3D28-4351-B36D-21AD85E4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1E8F1-8945-4206-951A-21A273F5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48198-FD93-46BD-AD65-3560DE3E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96431-7B16-4B76-B66A-407B6ABF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71EF6-DD79-465D-8C25-84462B73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FF51D-6139-4ABD-80BC-AEC4C935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AEB7-FDB0-426B-9E87-41D56C76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0C838-F02C-4B30-BBFA-5A28AFE4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5D7F6-E609-4646-A54A-22A44168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DF4F3-DB3D-4C65-BAF5-08CF1835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452A4-7509-42FA-A68F-426973BF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18525-2556-41FB-B783-AB0EC613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275F2-1471-4E79-ACE1-4CE8B883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04E36-0F4F-4720-8164-2F934111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7345C-72EC-43D6-81EC-1B9B2B1A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09A3D-B98B-49B1-B19B-25AB707E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A7787-3BA4-4860-B3AB-1D1D9D3F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3697-37F9-4F66-8F3B-90D24FF5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CB503-8A18-4E2A-91C3-D6E56670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ECB64-898B-41A8-9096-DB4EB0DD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262D0-F2D9-43CD-877B-DF6CE5BC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6513C-D235-403D-8756-EDA21798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203C9-7A3B-4466-9F33-DD1F59AC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1E35B-A95B-4D57-8551-CA079C3E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F2DFC-D2A0-41A7-AA11-41646E72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FF750-D402-469A-9B45-9E930E41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12419-3826-4290-9C10-1C8E0445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A75EF-1E98-4D65-940C-7C6EA5BF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8919-EE7C-4969-9D6C-778A8FA1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91781-BF1F-40E1-A236-EE65A091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748B7-F3B2-45A7-B60B-22EC688F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9DE0D-203B-42A2-9845-41DEF40D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66BA1-93FC-41D6-8ABF-B5218088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F7832-3A22-4D1D-9031-DC4D67C9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AB0C1-4C69-4735-BC98-D205402E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D0D67-9BA7-47BA-89FE-4804CA62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420A5-36D2-4C57-9E84-B9D6F89D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6519F-D0F6-4E5E-9E8F-81DFBA42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4706B-E9D0-4E35-9B8D-4C698AD4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8A08-3D8F-45ED-B76E-FF9D9AA6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8D639-C780-419C-A02F-6A17528C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AE471-7E45-47BB-A146-231DB398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5D358-698A-4E99-9F83-7F1E3806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88C85-BE0A-4010-AA46-B80E84C09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650D2-8D48-496F-B64E-AF69EA2A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E388F6-EC46-4FE2-B1AA-6783A34E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87B802-354E-47EF-85D1-DAFEED50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267957-A9A3-4951-A81D-7675F994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4C1263-D327-46D9-928B-F48EB92C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272831-257E-4316-8347-297AEB99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022A-D457-4CC0-B251-04F6A940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2B55B7-D673-4527-B870-A0032568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256387-0B94-4B9E-A3C1-5138D194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07F2D3-5B27-4AA9-9EEE-1E5E3672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7BA575-5147-4BE9-9292-007B2F8E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A66132-7C55-4F7B-8A56-97C6D695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775035-A486-4F0D-991E-8DCBBB5C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71E071-5CCF-4D3E-B442-7A87E66F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4BDA8A-6252-4A44-98A5-B8F24971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451835-6132-4F1B-BFB1-BFF641B8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6E5F3A-7F31-4438-BD98-F54E795E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E238-4D9B-44FC-9DA8-F975D62F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DE3A31-35EB-4582-9D90-5D9A7078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90127D-3A08-4E64-BABC-5574F315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865DD0-80A8-41C0-92BD-69D8BD0F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86D175-E9DA-46C5-8DD5-D5EBC372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F31CCE-0A88-40D7-9F2D-EF38965F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C7CFF6-B804-486B-954F-3D608D5D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AFEE86-6025-4C38-B4C9-301FC808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4A5C0A-528E-4CC8-B7B4-FDAE2034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3EAF9F-EB03-45A1-B1D6-E7FD2B53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0CDCF6-B42F-467D-9AE5-3F30E305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DB6C-9518-4504-92F5-05241FFB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865E73-CB33-4473-9D58-D115B35D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8BB1FA-F4C3-4E60-A53A-FFC6DFD5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FB12CD-68A9-4A1B-8EBD-09190328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9F7A0E-186A-49F5-856F-102DCC8D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9F3AE2-7F9F-4437-B9B8-1ABEDBA8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4358FE-AE38-471D-865C-D21ED982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30A646-FE6F-4C29-84FE-FC544311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D2FBF9-BB00-4884-B2EF-DA04C91E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1DDAEC-D150-4337-9574-509C078A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2B8B0D-6306-4910-9DDE-0226FCCA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40D2-A199-4DF3-B8AA-BCC279AE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3B9512-B795-4506-A1AE-E00F8CC6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AE7978-99E5-480A-B4C9-B9920FC0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E2736C-EA89-4F7F-88AA-4B1E8E96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C19F10-4A80-4D35-A4DD-16A17040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7C7DAA-604E-4122-9758-4BA69D7B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E85252-AF06-4BED-9E5D-13E600D8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C7E394-4FC1-48BD-A8AE-88D08F02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5ADCE6-EA8C-4005-9696-5904E00C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1B4012-4345-4720-94BA-761345D4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9E714D-5367-4719-A1C4-400A42A5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BB01-8296-4059-B833-EA7E1228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88DD6A-3F83-47FB-A20E-FE0E4BCA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FC221E-7B19-4EFA-A67B-883E2519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A057D6-BF3D-4B0C-B106-6E909796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4D02D1-2777-4553-9D71-553BD092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0B54CD-EAE6-42F0-B5A8-A470FA0C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D2B59A-ECB9-4740-8D88-D2FD61E6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31BB1D-5721-47B1-BAC3-741E09D9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A48740-4084-409C-97EF-EC66C8C5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B7D3F4-45B5-4E26-8FEE-EFBC207F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FAF41F-D226-482E-A974-2A975557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6084-CE9B-4978-84A3-9C6F6602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4737-09C7-4A21-BD00-B1AE6F71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79203E-66FA-4548-A81D-16EEC9D4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202A6F-0CF7-4305-9867-A0E6C904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2C173D-0346-4A5A-85D6-70CCF7C2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C305AF-0A98-4028-811C-576A965A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E21D61-F784-4201-8F14-E921CFFF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C02D45-E7C7-4CD2-9FC4-ABE40030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D21FF7-D112-49BA-A549-F14971C7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418F61-A3CA-42E2-BFA2-075C5196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702421-8D21-4E80-8FAC-2AFEDDAA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0D6B81-3199-44AD-BC75-A4B86E62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40D8-8311-4165-A54D-3605F751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50B0BB-0AA4-4F0B-917F-CE68BDDD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C112FC-0709-4287-8AAB-442313F5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FF623A-6395-4661-9C30-D6C1E039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8A21DE-E3EF-4A54-83BE-5B1E4D4E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65B219-E031-4041-AB09-BB34ECCF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CAE08A-462F-4CE8-AB9E-6C126A29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3B8EB4-17B3-4DEB-8D56-0D14F2E1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09C38D-686B-49FC-8BFC-825717D6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ADE1CA-17CA-4924-ACED-559471DA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DD8E9A-FECA-4B9E-A7B3-909D4847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00E2-745E-4CA6-B092-20EF4002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865747-B126-45F9-B792-64652A5E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C45995-C711-4012-8B3F-45FC3632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3224E1-2DCF-4681-8546-EC44419D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32F61E-EC2A-494B-ACF6-DA7CBD63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88A45C-9926-44ED-9FE9-242425F0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527AB0-333B-4CEF-BFFD-41EB4D41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C34376-9209-464A-A29E-237461A0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2A6225-D3CE-4F0B-A76A-C3C98C24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6A96DD-B1B5-4B63-95B5-4181DDE9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2D5F90-C757-4EB4-9B7D-4C1CF877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70D0-CA53-47AC-BD40-440BC0F8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2A2949-B61B-4599-BB09-1055D6E7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C0AC1D-E415-4FB8-B5DB-5684EF8C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66D479-C717-48CF-9F64-994C344E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745F1F-8122-48EF-8BCF-F097C72C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3F6BF6-463B-4F69-B4CF-B15F56C0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FDEC2B-7D87-41C5-B295-54CDBA59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7FBF91-4909-4BA0-AEEA-92581095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80D72C-5BEB-44C2-9B8C-E4A4DA93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969897-5FBB-4578-9EBF-BE799640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EE166D-063C-46F4-A0F4-44CEBF3E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FEEB-E55E-469F-B057-8982F3D2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9EF0B2-437C-4FC2-8985-53E734CA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BCA0D4-3B27-410F-B36E-2F81ED2A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AC50AA-4456-458A-852C-E9DD0BB2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B61272-59F4-409D-9298-F09A3F60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01D4AB-B086-4BD2-9E85-23BA5774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430329-421A-4D21-A3F2-F148B258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EE1339-195B-4F5D-BC87-327386A5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CA9F51-C0D4-4C92-9C6E-59274F34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9A7A1A-5B9B-48AF-AC5A-06A2233C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50D725-F04E-4A79-AD5C-0FA49811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23726-D145-4956-9F48-8691C0A8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F7F8D4-4D65-415E-80A4-EA59DB08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B04A64-3E83-4691-9F7B-F65DDF23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B33532-39AD-464A-8DEC-7FC1828E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5B55A-04F9-4083-A476-06C8CEDA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5D9DD-85E2-47BA-A729-E53EE21E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08BDE-A7D4-4585-B40C-40AFCCDA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E2326-A998-4A49-89BA-C211A108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CA52-C7B6-488C-B38B-06F5C609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E691D-90D2-4B3E-B7B0-593EDF35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A3304-C1F5-45B7-BFB8-C487DCA1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9DA02-0C10-4334-9AFF-AC26A8E2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71DBB-39EB-4ED4-AF47-0963F922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A147B-5846-4B8A-ADA5-F738E159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59152-1303-4229-81D3-7E46A948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F7962-9CB2-4CF2-ADFC-7E8D77FC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6EA5C-2895-4A10-983F-0CF6811F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74E08-7E68-4A43-9935-1D976E5F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61AF7-C050-49D9-A0EC-1582E427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B577-A1BC-423C-B290-AA24FF0F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A950E-E4BA-4A30-AA87-62908724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59656-3AD0-407D-B647-6E8ECFA7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4011C-BAF5-4E37-A234-C5FCA099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BCE03-7BFE-45BA-BE96-16481638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6D13A-415C-4B58-AF84-F5DAB059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DE478-D1C8-4784-A3CD-27E54AFD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55237-34F1-439E-92E4-BC48FD6F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5342C-2B34-45CA-AAEE-E6FF9C9E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3F656-98A8-4188-9767-A7A782A6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170B9-8A59-45A1-935E-C3CFAD6E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0A7D-5AA8-4917-8DA0-9E5B84EF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52531-9964-4D56-A15A-5F7C3BD0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0367C-DFAC-4C61-B91A-68D6B7F1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D39AB-67AC-457E-B7D2-DFDAA0F9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9889E-EA4E-4988-9EFF-BDD90077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AD972-876F-4E5C-B3AC-E3AF4F1F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7D3CF-9D69-4AF1-AA0E-142255E3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C7260-B93A-4008-9189-921FA337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C44D5-EF73-43CC-B1E5-E5699086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24C2C-356C-4564-9B68-6EE69317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D347A-11BF-4B4B-9068-876FEFB3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A169-D550-4244-9004-83BD87DE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3AD8A-7626-4C1F-B710-2CEE760E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3AEA3-6EA1-4118-B91C-457BDD3D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4E437-59EC-4EE6-94FF-3940A56F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5E566-16C1-4C44-9FDB-19C36F3C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98E3D-D666-4970-BDA2-9F817D36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F1854-E5CD-45D5-A644-99D94C57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A912E-8B4B-4614-B204-C1E1AA4E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24E4C-63CA-4CC1-B848-32F7F716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E751B-E609-41F0-90D4-6657FAAF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7AF48-169A-48C4-AE9D-A2B7B889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B43A-AD8C-4826-ADDD-CB70414E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9BC3D-65EB-4B67-9044-C9ADA8DA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0465D-2421-49BD-AAB6-BA31432C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BF992-0DB7-42CE-9694-9B7EFACA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C1BD6-119E-449D-962D-09C01AB4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1CBB1-ACA0-42C6-86D5-0BD2138E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8AE55-E4AC-4FC0-81D3-C52FBAA9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C8BFB-1329-402E-970E-F705CF12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97854-6774-475C-AB51-10135E50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A9E8E-51D1-4BB4-8979-7295AFEE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74DF7-AA4A-47C4-A8A2-89845297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C375-8297-4070-BAC0-DB98228C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CCBBE-E4D6-4A8C-8599-F09BF62B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60BBF-6A13-4D9F-A820-1F10F6EF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CDA0D-D50B-4B25-89B0-C75A4607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8646C-34EC-435A-9F74-DCF17303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35027-3BF4-46D9-94A2-ACB8FE79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CAA66-F57F-42A3-A191-B513F17A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BEB66-A63D-4641-B0DC-50F1D143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601E6-4FD0-4297-9B4B-65054CDF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8F3E1-3A8D-4C83-A190-62A08EB1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353B7-5A83-4960-A0CF-D9DD909A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1B55-0D7A-4065-84C3-0C967AA2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F9FA4-C6F2-4302-8EB6-C65CBCA8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2A12D-5FC5-4EDA-8644-42E4B40F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253A2-1449-4DB2-A039-06EEA13A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8D44F-76FD-4FA9-97CC-151A6932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5D3C1-26C5-45D7-8988-F8A29229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C6743-0B9A-41F9-9A12-4B2EE10E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19239-C552-4A37-94E8-24AE54AC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F4E31-5CC5-4366-8B58-C13299F1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B9A90-0DB8-45C3-B38E-B798CEE0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45615-220D-4B37-8125-8613E44B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E789-D2BE-417C-B0DD-A50B03C44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8AE3-481B-4261-9AF3-81B5B3D171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9472-7857-48DB-BDD7-EB49CE9361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DC5D-2A83-4366-A9B6-B78778C48F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904E-EC27-47D5-8B6A-C0D335A3CB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3000-0B86-49D4-BD0D-B51753A025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BDC6-A52E-46A2-8487-842F43E8D7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892E-6095-4C69-BA20-8E157B42B0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4BE4-88AA-4779-BFD7-A97D52A050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625C-BAF1-40CE-904E-E224FA6562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D96B-7219-4128-99D1-0A83310CCD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F4F8-4598-41BC-AD22-0386639978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17A3-FC39-4AA3-BB83-1CE94CF2B0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07B4-BFE6-47AB-B332-9AD7A83A97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1618-E4DA-4D95-8B87-12817F1646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2BE7-81F7-4AC0-AFA7-B8D07941F2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3B1D-724D-44CE-8076-BF74476350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AC25-E9E9-434D-9AD1-1F51D030DA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C3CB-DB48-4711-A490-832183592E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2CD0-1610-4598-B9D0-E0015FA564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630C-9672-4B1F-A67C-F43E273C12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BB92-DB92-4E8C-A0B1-36B0C8418A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BC01-80F5-4D73-A217-2594D35F42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168C-9283-491F-8923-A2E7A3588A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BF31-53FE-4126-B1D5-0AA7F48A04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3013-53B8-4082-BF45-ADB1399477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6B3F-EBF7-4934-A5FD-87042A6979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962A-D0C3-42A6-AF50-D004F421E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61F3-87F1-4E30-ADFB-BFCAEAA556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5682-458F-4DB5-8592-C16FC22554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6EA1-911F-4233-A7AE-B58AA0FDC7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EEFF-9EDB-4C4B-B053-497F1A0AD1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BF1F-927C-4E8A-8CD5-7E29D15783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D58B-66D2-4728-A9BA-C90FC295B7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64F1-2F37-4C82-AC5A-D1D71F0494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689E-8024-4196-AA27-D9B7DA5D7B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1B92-0CF8-4EE2-A71B-2EB4B586AC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F8F4-8632-49E3-A081-321AEAE543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DC73-0358-4157-9446-EA7C410622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7C17-0017-483D-A0FC-2ECC9518B7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886120" y="3076560"/>
            <a:ext cx="337176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352440" y="1085760"/>
            <a:ext cx="8439120" cy="52009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4500720" y="2673360"/>
            <a:ext cx="1357200" cy="3682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1039680" y="31240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4"/>
          <a:stretch/>
        </p:blipFill>
        <p:spPr>
          <a:xfrm>
            <a:off x="4857840" y="4051440"/>
            <a:ext cx="1214280" cy="368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5"/>
          <a:stretch/>
        </p:blipFill>
        <p:spPr>
          <a:xfrm>
            <a:off x="7215120" y="405144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6"/>
          <a:stretch/>
        </p:blipFill>
        <p:spPr>
          <a:xfrm>
            <a:off x="4214880" y="4968720"/>
            <a:ext cx="1357200" cy="368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7"/>
          <a:stretch/>
        </p:blipFill>
        <p:spPr>
          <a:xfrm>
            <a:off x="6643800" y="492912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8"/>
          <a:stretch/>
        </p:blipFill>
        <p:spPr>
          <a:xfrm>
            <a:off x="1214280" y="542916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9"/>
          <a:stretch/>
        </p:blipFill>
        <p:spPr>
          <a:xfrm>
            <a:off x="2928960" y="5429160"/>
            <a:ext cx="13572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352440" y="800280"/>
            <a:ext cx="8439120" cy="59148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2"/>
          <a:stretch/>
        </p:blipFill>
        <p:spPr>
          <a:xfrm>
            <a:off x="1857240" y="1766880"/>
            <a:ext cx="5715000" cy="368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3"/>
          <a:stretch/>
        </p:blipFill>
        <p:spPr>
          <a:xfrm>
            <a:off x="1214280" y="2674800"/>
            <a:ext cx="2500560" cy="3682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4"/>
          <a:stretch/>
        </p:blipFill>
        <p:spPr>
          <a:xfrm>
            <a:off x="928800" y="361332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5"/>
          <a:stretch/>
        </p:blipFill>
        <p:spPr>
          <a:xfrm>
            <a:off x="5000760" y="4071960"/>
            <a:ext cx="2857320" cy="368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6"/>
          <a:stretch/>
        </p:blipFill>
        <p:spPr>
          <a:xfrm>
            <a:off x="949320" y="4981680"/>
            <a:ext cx="3571920" cy="368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7"/>
          <a:stretch/>
        </p:blipFill>
        <p:spPr>
          <a:xfrm>
            <a:off x="7715160" y="54388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8"/>
          <a:stretch/>
        </p:blipFill>
        <p:spPr>
          <a:xfrm>
            <a:off x="357120" y="5910120"/>
            <a:ext cx="47865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333360" y="1028880"/>
            <a:ext cx="8524800" cy="18288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2"/>
          <a:stretch/>
        </p:blipFill>
        <p:spPr>
          <a:xfrm>
            <a:off x="1857240" y="1052640"/>
            <a:ext cx="7072560" cy="368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3"/>
          <a:stretch/>
        </p:blipFill>
        <p:spPr>
          <a:xfrm>
            <a:off x="214200" y="1486080"/>
            <a:ext cx="8775720" cy="38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"/>
          <p:cNvPicPr/>
          <p:nvPr/>
        </p:nvPicPr>
        <p:blipFill>
          <a:blip r:embed="rId1"/>
          <a:stretch/>
        </p:blipFill>
        <p:spPr>
          <a:xfrm>
            <a:off x="500040" y="1295280"/>
            <a:ext cx="81439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1" descr=""/>
          <p:cNvPicPr/>
          <p:nvPr/>
        </p:nvPicPr>
        <p:blipFill>
          <a:blip r:embed="rId1"/>
          <a:stretch/>
        </p:blipFill>
        <p:spPr>
          <a:xfrm>
            <a:off x="299880" y="1004760"/>
            <a:ext cx="8544240" cy="5496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2"/>
          <a:stretch/>
        </p:blipFill>
        <p:spPr>
          <a:xfrm>
            <a:off x="3051000" y="2398680"/>
            <a:ext cx="5846760" cy="3826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3"/>
          <a:stretch/>
        </p:blipFill>
        <p:spPr>
          <a:xfrm>
            <a:off x="214200" y="2857680"/>
            <a:ext cx="8775720" cy="3823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4"/>
          <a:stretch/>
        </p:blipFill>
        <p:spPr>
          <a:xfrm>
            <a:off x="214200" y="331632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5"/>
          <a:stretch/>
        </p:blipFill>
        <p:spPr>
          <a:xfrm>
            <a:off x="214200" y="3772080"/>
            <a:ext cx="8775720" cy="3823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6"/>
          <a:stretch/>
        </p:blipFill>
        <p:spPr>
          <a:xfrm>
            <a:off x="214200" y="423072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7"/>
          <a:stretch/>
        </p:blipFill>
        <p:spPr>
          <a:xfrm>
            <a:off x="214200" y="468936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8"/>
          <a:stretch/>
        </p:blipFill>
        <p:spPr>
          <a:xfrm>
            <a:off x="214200" y="514980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9"/>
          <a:stretch/>
        </p:blipFill>
        <p:spPr>
          <a:xfrm>
            <a:off x="214200" y="560376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10"/>
          <a:stretch/>
        </p:blipFill>
        <p:spPr>
          <a:xfrm>
            <a:off x="214200" y="6058080"/>
            <a:ext cx="8775720" cy="38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8467920" cy="22575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2"/>
          <a:stretch/>
        </p:blipFill>
        <p:spPr>
          <a:xfrm>
            <a:off x="214200" y="83664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3"/>
          <a:stretch/>
        </p:blipFill>
        <p:spPr>
          <a:xfrm>
            <a:off x="214200" y="1297080"/>
            <a:ext cx="8775720" cy="3823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4"/>
          <a:stretch/>
        </p:blipFill>
        <p:spPr>
          <a:xfrm>
            <a:off x="214200" y="1755720"/>
            <a:ext cx="877572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24:34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